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28.png" ContentType="image/png"/>
  <Override PartName="/ppt/media/image5.jpeg" ContentType="image/jpeg"/>
  <Override PartName="/ppt/media/image50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1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26C-7D94-4548-8785-59A37102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492-8B80-4A79-B90D-31855AA5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E1C-9912-4A6F-8FF0-AA93DF57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15B-4F22-43DC-9B4A-E8CC9ACA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F1A-61A5-4753-B8AF-1BFE874C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367B-0D9A-493B-838F-360ED5C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8FCD-712E-4B03-8654-18CC53CC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0B6A-0EA0-4802-B883-07837D60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1A2-9E87-414E-AAE4-A694F80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D69-6D73-48B5-98FA-DC2E209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03A-5B82-4483-8C3B-57657F7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8A-A4C2-482A-A839-2E5C8F4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B5C-633E-4B58-9A86-F743B78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F3CB-5BD5-4472-A310-4035932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71A-30F1-4455-9092-5EAA016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6CF-4697-4CEC-8132-73EFF52A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1847-4EAA-4F8F-8D6C-1AF6BF4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D3CA-4264-4CCA-9989-F89E2792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499C-DB8C-43CA-94DA-EDDF520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C4A5-EC78-4C72-BD51-6BA897B0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6154-5744-47AC-ACEC-B0B8A0FB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27EC-4454-4044-A4E7-444E8C88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462-1AC9-443D-86EA-C8946527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C65F-D64F-4D2A-802D-84DF79EA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6E18-E314-41EA-8B31-AD38FEC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DB5A-7C70-4769-A8E2-F6A55C2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A1F3-340B-4CE1-94A8-A94C710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2CF9-CFF4-42D2-BC33-BDC686F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BEB0-9577-4EAD-AD47-06E567DE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24BD-640E-4800-99DE-5BF81A62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5E93-FD5F-4772-AF5D-EA62DC31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B33C-438F-4A49-B9CF-6F4F294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0842-6810-44BD-8CAA-AD71D3B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4B7-7564-45B7-929D-97B2EC0E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0D65-F19D-4EDE-AE2F-B0A2E15E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296B-6E09-4D97-88CF-1B51402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614B-FAE6-4325-ACA1-A319005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824E-876A-4EAF-A282-56F53F5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C1BC-1583-4697-A52C-13A80EB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041F-1348-4968-8C98-E7D34A0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09D0-96D8-422D-9EF8-E4F6619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5B83-2B10-4277-9617-0C08A731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C973-93CF-4465-9DF5-21CE1D8A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CC49-5994-4568-A0D3-0C13A045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120-5D2E-4FD6-89EF-137D7CA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D73B-7D81-4670-B553-ADBCF190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1FDF4-F713-4AC7-9DEA-2F08CC8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EA89-615C-4337-B565-20DCD25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041B-E552-4B32-93C3-F4D840F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32FC-EFAC-4F24-A5C3-6D46505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A31B-F0AB-4ADD-8D1F-5BC994D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3121-E818-4CEE-A070-F85FD45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3C5F-ED04-44D0-9F23-2D5D096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0C71-D7E6-41AD-9A31-E6452008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828C-C66D-4A7B-9ED6-7BDDB35B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4DD-7398-4DD0-BE19-B67B1E94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CFBE-46A6-43E0-BDFE-BD992B17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7DC30-28A5-4158-9857-C07D3C04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ABD5-B1CA-4BD9-85F2-8924831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9458-230B-4C18-882C-BD451834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40BAD-B96C-4FD4-B84E-831E0161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E06D-24E1-4CF8-A559-D457294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48D9-0539-4774-BFDE-1045F98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F155-B1E6-45DA-989F-1C106C7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014F-60BF-4883-97B3-329D0FD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E4375-59F8-4445-91A5-334D639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C2F-12CA-4880-BE2A-E5B66FCA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35EF-A0E8-48C7-BED2-33C0390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8C85-3535-4A56-8F09-98AA6A9B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EB05F-908B-4432-966C-79B71668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360B-FBCE-4341-BACB-265C300F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4233-A01C-42A0-B2FD-414F0248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A27B-F1B0-48EC-89D6-6610C8B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9B8C-3388-49D8-9913-C9B655A6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79BDC-F6D4-40F7-A1C7-0293DDD3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DF96-5086-4BE6-9314-8C525A5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8976-A7A7-4069-B24A-120FDB7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C53-64C5-43FA-99AE-847804E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7B155-BC03-4722-9616-4058CEF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AE55-8381-4D54-88DD-7BB50BF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CE53-632D-4204-8C64-C108F69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4CA8-6161-4689-9150-1764A071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90B5-224E-4F7A-9A91-EFE5B615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729C-FEC6-4987-B963-7533F0A7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54A5-6682-4DFB-B8EF-11099E1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AE34-85F1-4BA2-9270-2EC7846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9796B-47B6-4CEB-9E83-754CAE38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102E-E0BA-4391-8134-704652D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D72-5736-489B-B7EA-471DA30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80786-C557-4A77-B2E7-BA078AC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B8E8A-1EE6-4F0F-9A69-A84BA28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7EF6-6B70-42E8-B6D7-870629F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0EB6-382C-4BAE-80CB-5D87266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24135-F10D-4D9C-915E-5BDF283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D4CA5-8CFD-43F3-95D6-991E1BF7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A0E73-A25E-4FD8-9ACE-20989658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B7B9-CD30-4A1D-A826-0A32A92DD4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723C-1B32-4621-9F39-5EDF2E3889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0AC-2A7F-4767-B2A3-2E93FD2657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A593-7D66-42CD-B78C-764EF18823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B54-FAEC-4EB6-AC4E-E559E17F98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25E2-D1FB-4A46-877B-C0A99FAFEF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E67D-466F-4306-A558-753AD67C858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F62-F180-4AEB-BC1C-1F66C037CB3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magine 6" descr="POWERP_COVER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CasellaDiTesto 5"/>
          <p:cNvSpPr/>
          <p:nvPr/>
        </p:nvSpPr>
        <p:spPr>
          <a:xfrm>
            <a:off x="1523880" y="5638680"/>
            <a:ext cx="6324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Lucida Sans Unicode"/>
              </a:rPr>
              <a:t>Upskilling Europe Toolkits | Toolkit 01:  Educazione all’Imprenditoria So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Unicode"/>
              </a:rPr>
              <a:t>ALLEG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ttangolo arrotondato 8"/>
          <p:cNvSpPr/>
          <p:nvPr/>
        </p:nvSpPr>
        <p:spPr>
          <a:xfrm>
            <a:off x="1981080" y="2743200"/>
            <a:ext cx="53341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772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u hai le domande, noi le rispos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391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Risparm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Vivi megl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5715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22795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È tempo di vol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Qualcosa su cui rid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Prendersi cura degli affar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171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iente reg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utto giu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22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n uscire di casa sen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419040" y="12193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Passione per la str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Quando piove, diluv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3181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a costante ricerca della perfezi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2228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700" spc="-1" strike="noStrike">
              <a:solidFill>
                <a:srgbClr val="4e5b6f"/>
              </a:solidFill>
              <a:latin typeface="Lucida Sans Unicode"/>
            </a:endParaRPr>
          </a:p>
        </p:txBody>
      </p:sp>
      <p:pic>
        <p:nvPicPr>
          <p:cNvPr id="377" name="Picture 3" descr="Great Group Games Logo.jpg"/>
          <p:cNvPicPr/>
          <p:nvPr/>
        </p:nvPicPr>
        <p:blipFill>
          <a:blip r:embed="rId2"/>
          <a:stretch/>
        </p:blipFill>
        <p:spPr>
          <a:xfrm>
            <a:off x="5791320" y="228600"/>
            <a:ext cx="31986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Il gran formagg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Dietro di te, in ogni pas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3048120" y="3886200"/>
            <a:ext cx="3000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380880" y="19051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tiamo cucinando 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714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mericani di nascita. Ribelli per scelt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ucco al 100 %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Per bimbi al 10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457200" y="18288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Gatti, è così buon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15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’automobile definiti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83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457200" y="18288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È stato fac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96252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 modo tu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457200" y="18288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ei in buone man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Da leccarsi le dit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4"/>
          <p:cNvSpPr/>
          <p:nvPr/>
        </p:nvSpPr>
        <p:spPr>
          <a:xfrm>
            <a:off x="380880" y="19810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’arte della perform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380880" y="12193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estato dai bambini,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pprovato dalle mam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56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380880" y="19810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vegliati e gu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343080" y="129528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Il marchio di un uom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43:14Z</dcterms:created>
  <dc:creator>Shogun</dc:creator>
  <dc:description/>
  <dc:language>en-US</dc:language>
  <cp:lastModifiedBy>GraFica</cp:lastModifiedBy>
  <dcterms:modified xsi:type="dcterms:W3CDTF">2016-06-03T10:10:02Z</dcterms:modified>
  <cp:revision>47</cp:revision>
  <dc:subject/>
  <dc:title>Battle of the Sexes: Zoom In Game</dc:title>
</cp:coreProperties>
</file>