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7.png" ContentType="image/png"/>
  <Override PartName="/ppt/media/image25.png" ContentType="image/png"/>
  <Override PartName="/ppt/media/image62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672-B3DE-4B40-BF34-74B0D3B1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0AA-74C9-41A2-B3F8-53D1BC2A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D1C-2210-4D5E-9212-ABCB99E9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5A6-A3CB-4FE6-A05C-C5CCE3E8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18F5-E7F5-40A6-80F7-C3AD7761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9195-C69C-4EFE-87C2-CA02A217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EE6D-F734-4E58-B73B-BB4D169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2316-3BE4-47C6-B19B-BB5D98F7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7241-926A-4B51-BC7A-424D022D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04B5-782C-4C8F-B650-A60E19F8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84A6-61C0-4D6E-ABAC-649E5F36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084-4DC4-4301-A21A-344DFC3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6F09-A389-4BC7-8F89-5D381DCA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5BC2-3558-45D9-801F-B411EAE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81FD-F5F2-4DA9-931A-4CA6DC6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2CFB-2D30-407A-9498-92BC5721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5877-322D-4000-ADD9-BB83DA9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27D8-D536-461C-8377-E4F60C5D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1FE4-0DCA-4824-B5F6-3D0EAB5A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E799-B890-43CB-915F-684D7199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4D07-40CE-44AF-8B05-6A1A1442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73BB-939A-4467-BF79-A2E5690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33A-0EAA-4E55-AB84-294E5433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D564-9FCC-4544-88AC-4A8B5278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E1CC-0FC9-4793-99F3-ECCFD2D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4237-793B-4B99-A565-6637CC9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6633-159D-4AF9-9DD7-3672EAE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587A-0A46-4F45-BA42-C1F679F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968F-400D-4E81-B74D-E364CE7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2ED8-6A4D-46DA-B944-2FAFDC4C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A3F2-80F2-4E8B-8F26-1C33F9D9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10FA-8743-4D61-9010-18AF38E6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FDB9-8D22-4483-A0D7-45444895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4E3-904D-4771-A326-1F12B2DD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0F6B-F1C1-4B38-98C7-CC117A3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8A58-9141-4A92-90DE-2AF218FC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E330-B4EB-4A38-BF7F-FA6AEE0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D3F7-F76E-458B-9F41-6A7ADCFA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09F0-9AAA-413F-A557-C7008C0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01E8D-B167-400B-97B8-4CCDB00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8AA1B-CE07-4F26-82DB-9C735A0A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7004-CB73-4D2A-BFDF-112ECB1B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66DA-CA0C-4C9F-8B17-CB93DBCD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0597-60B6-4EFE-B8D9-EE4B20F7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570-0A26-454E-991B-7231DC76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F12D-B08A-4213-A61B-1684E088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E537-64C5-4577-8279-2479DC0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70BE2-7565-4DE3-9793-03E95C9F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2598A-8D86-460B-A6E1-6E825F76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9F67D-12F7-44E0-962B-CCC8594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3036-B1DC-41E1-AB12-7E6650C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1421-BB84-499E-98B6-0F0AF18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49CB-A908-4EA0-8A8D-AB921C9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106C1-D536-401D-A304-35DF5BB9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799F1-E1C2-41BD-BADA-CD623B7D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1E4-3CA4-4A2B-B059-6809B4F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E3FA-0E5B-42A1-AE2F-2361C957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B10A9-4A77-4217-8A7F-6E9C8FB0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254D-885D-41EA-B1A0-5BF93958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D7EA-16C0-4B32-8EC8-757773B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6388-8287-42E9-A966-18C92A04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D643-F39C-4EE0-9150-24F0F14E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B5BD-3301-4070-A9FE-FA961108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EB58-6B98-45A5-AF43-7FD6B57A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A662-EE09-436E-B634-14924E1F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31F1E-37F7-4471-BE8D-27CC821C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238-4DF0-4F5A-8F71-587E4E2D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76BE8-B569-442C-B2E2-3A0B7541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66F4-604D-43E9-94F5-0DCBEF94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1ACB-C1F2-4A00-AE73-DF633422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60E8D-275B-42A6-86BF-D1BF28ED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7784E-7E52-40ED-A048-57F734EA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645C-283E-4D31-8FFE-37C4596E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0084-3CBA-40F5-9E45-99963ED3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58C7C-6444-4DA8-90BE-93BD5C9F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6F029-99E3-4F01-B228-F8B7711B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C3037-A1F3-4DDF-ACF9-ED174AE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BEF-3CB1-4D05-926D-E52A508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D2744-29A3-407A-8309-5FFEAEE1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C8CB5-47A9-41A9-A676-5937885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90103-0013-4E90-9C84-AB0EF3E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5BCF-C2BE-4384-A00F-B0B8CB3C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B32A-6411-45E6-8FA5-02794A51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03427-9D41-47A0-A959-5B989ADC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6A528-BAB3-42B2-A0EB-D36F2DE1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A9FA6-1347-4A89-B667-BBC1CDF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DB13-C8AC-47FF-994B-3C10A32B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284F-7515-43A8-8369-E5B51A32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4A5-6029-4F8E-B61D-87FC37AD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1D008-A59F-4EBD-A92D-07BB12D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64E5-6614-437E-9C68-8A063D4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983B0-5DA2-4054-9E8B-0F93472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F3DCF-957D-4719-A7A4-BB6B3B2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94BA3-F3E6-42D5-B3E3-C7D1AB40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5B2A0-5DCC-4164-950E-6EF0A167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61428-5021-480A-9D23-082046AF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CCC-DF73-4FB4-88D8-48BA5EE06D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0CE9-F973-4868-8E06-C5D04764CF2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A5A-6A6F-4659-A1F7-29DFE80ADC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D558-FE73-4CD4-AD98-585E6C5067C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905E-9324-471B-BF3F-53FA5E8B85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D1DD-DFBB-42DA-9625-24BE295CF3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C836-8269-4E33-B42A-3535152FAC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D79-EFD3-43C1-8617-05387D0900D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-12600" y="4680"/>
            <a:ext cx="91692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1876320" y="2643120"/>
            <a:ext cx="5389560" cy="1579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4"/>
          <a:stretch/>
        </p:blipFill>
        <p:spPr>
          <a:xfrm>
            <a:off x="2200320" y="2793960"/>
            <a:ext cx="4743360" cy="1279440"/>
          </a:xfrm>
          <a:prstGeom prst="rect">
            <a:avLst/>
          </a:prstGeom>
          <a:ln w="0">
            <a:noFill/>
          </a:ln>
        </p:spPr>
      </p:pic>
      <p:sp>
        <p:nvSpPr>
          <p:cNvPr id="375" name="CasellaDiTesto 6"/>
          <p:cNvSpPr/>
          <p:nvPr/>
        </p:nvSpPr>
        <p:spPr>
          <a:xfrm>
            <a:off x="1523880" y="5638680"/>
            <a:ext cx="6324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Lucida Sans Unicode"/>
              </a:rPr>
              <a:t>Upskilling Europe Toolkits | Toolkit 01:  </a:t>
            </a:r>
            <a:r>
              <a:rPr b="0" lang="it-IT" sz="1400" spc="-1" strike="noStrike">
                <a:solidFill>
                  <a:srgbClr val="ffffff"/>
                </a:solidFill>
                <a:latin typeface="Lucida Sans Unicode"/>
              </a:rPr>
              <a:t>Social Entrepreneu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Unicode"/>
              </a:rPr>
              <a:t>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4"/>
          <p:cNvSpPr/>
          <p:nvPr/>
        </p:nvSpPr>
        <p:spPr>
          <a:xfrm>
            <a:off x="380880" y="167652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ou’ve got questions, we’ve got answ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43912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ave money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ive bett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5715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2279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ime to 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omething t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mile 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aking care of bus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171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o ru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Just r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22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n't leave home without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380880" y="16765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Passion for the ro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2057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en it rain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it p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3181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relentless pursuit of perf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22287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700" spc="-1" strike="noStrike">
              <a:solidFill>
                <a:srgbClr val="4e5b6f"/>
              </a:solidFill>
              <a:latin typeface="Lucida Sans Unicode"/>
            </a:endParaRPr>
          </a:p>
        </p:txBody>
      </p:sp>
      <p:pic>
        <p:nvPicPr>
          <p:cNvPr id="378" name="Picture 3" descr="Great Group Games Logo.jpg"/>
          <p:cNvPicPr/>
          <p:nvPr/>
        </p:nvPicPr>
        <p:blipFill>
          <a:blip r:embed="rId2"/>
          <a:stretch/>
        </p:blipFill>
        <p:spPr>
          <a:xfrm>
            <a:off x="5791320" y="228600"/>
            <a:ext cx="31986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big che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4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e’re behind you every step of the 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3048120" y="3886200"/>
            <a:ext cx="3000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e’re cooking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57148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American by birth. Rebel by choi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100 % juice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100% ki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astes so good cats ask for it by 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2152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Ultimate Driving Mach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83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4"/>
          <p:cNvSpPr/>
          <p:nvPr/>
        </p:nvSpPr>
        <p:spPr>
          <a:xfrm>
            <a:off x="457200" y="18288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at was eas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396252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Have it your 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ou’re in good han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Finger-lickin’ goo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380880" y="19810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art of perform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80880" y="16002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Kid-Tested,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Mother-Approve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56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80880" y="19810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ake up and dr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2057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380880" y="19810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mark of a m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3505320" y="35053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43:14Z</dcterms:created>
  <dc:creator>Shogun</dc:creator>
  <dc:description/>
  <dc:language>en-US</dc:language>
  <cp:lastModifiedBy>electronio</cp:lastModifiedBy>
  <dcterms:modified xsi:type="dcterms:W3CDTF">2016-06-03T10:39:18Z</dcterms:modified>
  <cp:revision>45</cp:revision>
  <dc:subject/>
  <dc:title>Battle of the Sexes: Zoom In Game</dc:title>
</cp:coreProperties>
</file>